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BE7-530F-4CAE-936C-CA1EFB14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7D9-591B-4F3D-9989-4B94E7F1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2A0-0336-4A4E-8143-FDCF7D28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0B2-3BA8-42C7-A8EF-1249D21F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F7E2-E590-44F3-A769-50368ED7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D99-7F1F-4C25-A4BC-04D4C5F6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CCE-EC63-462B-B675-D10E7823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47F-9EFA-4D39-B55D-F27C9929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5D9-5F53-476F-A99E-3C3DCFE8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ACC-00C3-4C1F-85A4-D0FC6061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8E5-C51B-41E0-9633-D6C2DCCC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16A9-28D0-4519-9F95-98CEE5E1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FE0E-E481-4932-A0E7-C2D54E5E059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76320"/>
            <a:ext cx="8839440" cy="670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68360" y="26028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9. Útügyi Nap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yőr, 2014. szeptember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846360" y="2895480"/>
            <a:ext cx="76179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hosszú élettartamú útpályaszerkezetek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apcsolatos  európai kutatási eredmény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és építési gyakor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r. habil. Gáspár Lászl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tató professzor, KTI Nonprofit K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3. Az átlagosnál hosszabb élettartamú utak vizsgál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280" y="1980720"/>
            <a:ext cx="84250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980-as években KÖTUKI: 216 db, min. 13 éves   kopóréteg vizsgálatának néhány eredmény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ötött talajú földművön nem lehe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nagy f = F100/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gazdaságosabb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ötőanyag nélküli alap nem rosszabb a kötőanya-gosná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in. 2,5-ös v/D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ax. 3 tf% hézag és 100%-hoz közeli tömörség (felső két aszfaltréte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98108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2006-2012. ELLPAG-projekt: hosszú élettarta-mú burkolatokkal foglalkozó európai munka-csoport (9 ország, közte HU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Cél: információgyűjtés, használói útmutatók, útügyi szervezetek segít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lcsoportok: definíció,  új pályaszerkezet, álla-potfelmérés és felújítás, fenntartás (HU), gaz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daságosság, hiányzó ismerete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3640" y="1989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Definíció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: tartós szerkezet földműve és alapré-tege – forgalom, környezet, öregedés, anyag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veszteség, rossz építésminőség miatt – nem hibásodik meg; az esetleges hibák a burkolati rétegre korlátozódn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Három vizsgálati fázis: a hajlékony, a félig me-rev és a merev pályaszerkezete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4.1 Hajlékony pályaszerkez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oncepció csak USA-ban és Egyesült Király-ságban. Min. 300 mm-nyi aszfalt (maximált nyúlás alsó szálban). Nagy forgalomnál lehet gazdaságos. Földmű tartós állékonysága elő-feltétel. Különleges építéstechnológia lehet szükséges. Kiváló kivitelezési minősé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Más tervezési módszer és építési eljárás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V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1989000"/>
            <a:ext cx="849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Élettartam-költségekben elérhető megtakarí-tás. Pályaszerkezet-szilárdság küszöbértéke.  Máshol több lépcsőben erősítés ilyen céll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Jól megépített, vastag aszfaltburkolatú pálya-szerkezet teherbíró földművön: legfeljebb fe- lülről burkolati repedés. Felső réteg periodikus cseréje szükséges. Rendszeres állapotfelvé-tel az optimális beavatkozás tervezéséhez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198900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öltség-haszon elemzés: angol HA modellje (létesítményi és hálózati szint) és OECD PASI modellje (az amerikai SAS-modell adaptáció-ja). Költségek: építés, fenntartás, értékválto-zás, baleseti, idő-, környezeti és forgalom-szervezési költség. (A beavatkozás alatti úthasználói költségeket is számítják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4.2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Félig merev pályaszerkez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Jellegzetes felépíté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00-290 mm-nyi aszfaltrétege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50-300 mm-es cement kötőanyagú rét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ivétel Franciaorszá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60 mm aszfaltréte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ár 450 mm-nyi cement kötőanyagú rét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8920" y="1989000"/>
            <a:ext cx="878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étféle stratégia: repedések elkerülése, ill. tűrése (F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Reflexiós repedés elle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előrepesztés 3,0-3,5 m-enként (CRAFT, Olivia, Joint actif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SAM, esetleg előrepesztésse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gyorsan törő emulziós 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evés hőt fejlesztő cemen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vastag aszfalt-pályaszerkezetrész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560" y="206064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ihetetlen” francia tapasztala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 mm A + 190 mm B →   30 é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 mm A + 200 mm B →   50 é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 mm A + 210 mm B → 100 é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osszú élettartam, ha teherbírásuk nem csökk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osszrepedés vagy sűrű keresztrepedés → szerkeze- ti hiba (teherátadás megszűné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UK: 200 mm-nyi aszfalt korlátozza a repedést felülrő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PAG-projekt I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000" y="184464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4.3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Merev pályaszerkez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urópai gyakorlat: URC, CRCP, (JR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Folytonosan vasalt változat: B, F, NL, U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Merev burkolat tervezése: tapasztalati ada-tok, laboratóriumi adatokkal alátámaszt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Hosszú élettartamhoz egyenletes és tartós alap. (Földmű kevésbé terhel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Tartalomjegyzé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4360" y="155736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utak élettartama és befolyásoló tényező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Burkolat-élettartam előrebecsl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átlagosnál hosszabb élettartalmú utak vizsgá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ELLPAG-proj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4.1 Hajlékony pályaszerkeze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4.2 Félig merev pályaszerkeze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4.3 Merev pályaszerkezet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„örökké tartó” burkolat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Néhány ajánlá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PAG-projekt 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atékony felújítá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új betonréteg (hozzákötött vagy nem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szfalt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eljes pályaszerkezet-cse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crack and seat” + vasalatlan beton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fűrészelt hézagú aszfalt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zúzalékrétegen új réteg(ek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ört beton alapként történő újrahasznosítása.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5. Az „örökké tartó” burkolatok 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2002-2004. OECD-munkabizottság: hosszú élet-tartamú kopóréteg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Döntő: tervezés, anyagok, bedolgoz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Számos változat közül a HDM-4 és az angol mo-dell alkalmazásával választott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epoxi-aszfalt és a nagy teljesítményű beton bi- zonyult legígéretesebbn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 munka II: fázisa: kísérleti szakaszok vizsgál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5. Az „örökké tartó” burkolatok I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989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Egyesült Államokban az „örökké tartó” burkolatok elvét az AASHO-útkísérletekre, a „michigan-i” konfe-rencia-sorozatra és a mechanikai-tapasztalati terve-zési eljárásra vezetik viss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Jellemző felépíté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35-75 mm-es mZMA vagy Superpave kopó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-150 mm-nyi nagy modulusú aszfaltréteg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75-100 mm-nyi fáradásnak ellenálló aszfal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jó minőségű alsó alapréteg és földm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5. Az „örökké tartó” burkolatok II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00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ervezési kritériu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szfaltrétegek alatti vízszintes megnyúlá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ükrön fajlagos összenyomó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orlátozá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önkremeneteli hatá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eréknyomokban 10 %-nyi  reped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el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 fegyelmezett építés, gyakorlott és lelkiismere-tes személyzet, egyértelmű és korszerű szabályo-zás, minden elemre kiterjedő minőségbiztosítá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6. Néhány aján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184464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Korábbi hazai és külföldi tapasztalatok alapján a hosszú bur-kolat-élettartamhoz szüksé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elegendő pénz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osszú távon gondolkodó úttulajdon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nemzetgazdasági érdekeket tükröző szabályozási rendsz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felkészült és elkötelezett útkezelő, -fenntart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ozzáértő és lelkiismeretes tervező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jó minőségre törekvő alapanyag-gyárt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osszú távra tervező kivitelező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az újdonságokra fogékony „érdekelt felek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zövegdoboz 1"/>
          <p:cNvSpPr/>
          <p:nvPr/>
        </p:nvSpPr>
        <p:spPr>
          <a:xfrm>
            <a:off x="539640" y="2708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Köszönöm a szíves figyelmüke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Az utak élettartama és befolyásoló tényezői 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Útélettartam definiálás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odulo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funkcióképessé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beavatkozási hatá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rétegek megváltozott funkciój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úlüzemeltetés”, ún. pénzügyi élettart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13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1. Az utak élettartama és befolyásoló tényezői 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Pályaszerkezet élettartamát befolyásoló tényezők szinergikus hatás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forgalom (járműszám, tengelyterhelés, -elrende-zés, jármű felfüggesztése, szezonális eloszlás, forgalomfejlődés járműkategóriánként, forgalmi sáv szélessége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örnyezet (tervezéskor ismert: talaj, mikroklíma, földrengés-, árvízveszélyesség; tervezéskor nem ismert: egyes éghajlat-változási elemek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1. Az utak élettartama és befolyásoló tényezői 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492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tervezés (szabályozáson túl, hozzáértő, gondos, víztelenítés!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építés (felkészült, lelkiismeretes, hosszabb távon gondolkodó, teljesítményi alapú szer-ződé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fenntartás (időben, szakszerű, megelőző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felújítás (időben, színvonalas tervezés és végrehajtá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 Burkolat-élettartam előrebecslése 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Leromlási folyamat, állapotparaméter, leromlási görbe – hálózatviselkedési modell, beavatkozá-si és figyelmeztető határ, maradékérték, telje-sítményi jelzőszám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973-79. KÖTUKI: 32 szakasz évi kétszeri álla-potvizsgálata (kézi és gépi mérés, szubjektív jellemzés, kopásmérés, várható élettartam-tar-tomány tervezési kategóriánké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 Burkolat-élettartam előrebecslése II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991 óta 60 szakasz évi egyszeri „monito-rozása”: 14 osztály, 6 állapotparaméter, pontosodó hálózatviselkedési modellek állapotparaméterenként idő és forgalom függvényében, beavatkozás után annak jellemzőit és hatását mérik fel, hasznosí-tás PMS-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Burkolat-élettartam előrebecslése 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Tartalom helye 3" descr="48.CGM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Burkolat-élettartam előrebecslése I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artalom helye 3" descr="76.CGM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7:21:54Z</dcterms:created>
  <dc:creator>Keleti Imre</dc:creator>
  <dc:description/>
  <dc:language>en-US</dc:language>
  <cp:lastModifiedBy>Gáspár László, Dr. habil.</cp:lastModifiedBy>
  <dcterms:modified xsi:type="dcterms:W3CDTF">2014-09-12T11:13:29Z</dcterms:modified>
  <cp:revision>50</cp:revision>
  <dc:subject/>
  <dc:title>PowerPoint bemutató</dc:title>
</cp:coreProperties>
</file>